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2.png" ContentType="image/png"/>
  <Override PartName="/ppt/media/image26.png" ContentType="image/png"/>
  <Override PartName="/ppt/media/image11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6.wmf" ContentType="image/x-wmf"/>
  <Override PartName="/ppt/media/image5.wmf" ContentType="image/x-wmf"/>
  <Override PartName="/ppt/media/image35.wmf" ContentType="image/x-wmf"/>
  <Override PartName="/ppt/media/image36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9655-E13A-4DFC-8247-D468F3F109F2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88620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88620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2" name=""/>
          <p:cNvSpPr/>
          <p:nvPr/>
        </p:nvSpPr>
        <p:spPr>
          <a:xfrm>
            <a:off x="1281600" y="4637160"/>
            <a:ext cx="46184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There have been several prominent financial “crises” in the 1990s.  Mexico’s in 1994-5 mark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what’s considered the first major episode.  In 1997, several Asian economies experienced cris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tarting with Thailand.  The Russian one in 1998 was market by a default on government debt (w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get back to in this talk); that crisis was followed by the collapse of LTCM.  The latest major cri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occurred in Brazil.  It is worth noting that “crises” have occurred in many other countries in vario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regions (Pakistan, Colombia, Ecuador to name a few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AA27-6DC4-4A77-B01A-708EDDDF3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FF2C-952C-4113-B245-10029FE0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363C-28B6-45E8-AD4E-ABAAA88D8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54D7-939A-42F2-80FF-6D09F927B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0E9F-9190-49E0-B901-A2E43C5D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4F63-E982-45F4-9F36-498F27C2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2B69-A0D3-420D-9F3E-2B14DC61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8851-A5AB-4DAF-A197-DEB239A6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92000" y="250560"/>
            <a:ext cx="699444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6100-6BB4-4E34-A1CC-272FE880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1DEB-EF8C-462C-BC77-D14D892C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76C0-F3DB-4C23-93B6-826A2584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103F-8EBE-41FB-ABB4-718B8366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09CB-E9A6-4612-A808-A86C2DCA9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8440" y="130320"/>
            <a:ext cx="1447920" cy="113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960480" y="3800520"/>
            <a:ext cx="720072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uillermo Larrain Rio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perintendente de AFP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sentación para el Magíster en Políticas Pública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antiago, 5 de agosto de 2005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2183760"/>
            <a:ext cx="6840720" cy="1312920"/>
          </a:xfrm>
          <a:prstGeom prst="rect">
            <a:avLst/>
          </a:prstGeom>
          <a:solidFill>
            <a:srgbClr val="33339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 Unicode MS"/>
              </a:rPr>
              <a:t>Reflexiones sobre el Sistema Previsional Chil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280" y="419040"/>
            <a:ext cx="7596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Arial Unicode MS"/>
              </a:rPr>
              <a:t>Los Fondos de Pensiones son los principales inversionistas de letras hipotecaria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1655640"/>
            <a:ext cx="7848720" cy="3789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50920" y="5516640"/>
            <a:ext cx="8569080" cy="1081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inversión de los Fondos de Pensiones en la ofer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letras hipotecar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 Banco Estado es de 47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0" t="4161" r="-2296" b="9847"/>
          <a:stretch/>
        </p:blipFill>
        <p:spPr>
          <a:xfrm>
            <a:off x="1332000" y="1484280"/>
            <a:ext cx="6767280" cy="49910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06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Unicode MS"/>
              </a:rPr>
              <a:t>Acceso a la vivienda en Chil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1" name=""/>
          <p:cNvSpPr/>
          <p:nvPr/>
        </p:nvSpPr>
        <p:spPr>
          <a:xfrm>
            <a:off x="2879640" y="6568920"/>
            <a:ext cx="626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ente: CEPAL – SERIE financiamiento del 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 Unicode MS"/>
              </a:rPr>
              <a:t>Efectos de los Fondos de Pensiones en el financiamiento de viviendas en Chil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615680"/>
            <a:ext cx="7632720" cy="14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 observan mayores plazos para créditos hipotecarios y disminución de las tasas de interés de los préstamos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71640" y="3060720"/>
          <a:ext cx="7489800" cy="2600280"/>
        </p:xfrm>
        <a:graphic>
          <a:graphicData uri="http://schemas.openxmlformats.org/drawingml/2006/table">
            <a:tbl>
              <a:tblPr/>
              <a:tblGrid>
                <a:gridCol w="2590560"/>
                <a:gridCol w="2514600"/>
                <a:gridCol w="2384640"/>
              </a:tblGrid>
              <a:tr h="116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asa de interés real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81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UF + 1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4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UF + 5,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más de  20 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lazo máximo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77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2 a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(certificados con respaldo hipotecari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4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0 a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7948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Unicode MS"/>
              </a:rPr>
              <a:t>La gran mayoría de los adultos mayores viven en casa propi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57280" y="1685880"/>
          <a:ext cx="8244000" cy="461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685880"/>
                    <a:ext cx="8244000" cy="46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6154560" y="63025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92000" y="250200"/>
            <a:ext cx="69944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A pesar de eso, hay problemas de dos tipo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560" y="1687680"/>
            <a:ext cx="3887640" cy="52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blemas de arrastr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onos de reconocimiento: calculados sobre una “mala base” porque el desempleo entre 1975 y 1979 fue muy alto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año previsiona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lto desempleo en 80s y 00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blemas estructurales, endógenos y exógeno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51280" y="1557360"/>
            <a:ext cx="5292720" cy="5040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084720" y="3571920"/>
            <a:ext cx="503280" cy="1152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732720" y="2637000"/>
            <a:ext cx="1798560" cy="2376360"/>
            <a:chOff x="6732720" y="2637000"/>
            <a:chExt cx="1798560" cy="2376360"/>
          </a:xfrm>
        </p:grpSpPr>
        <p:sp>
          <p:nvSpPr>
            <p:cNvPr id="124" name=""/>
            <p:cNvSpPr/>
            <p:nvPr/>
          </p:nvSpPr>
          <p:spPr>
            <a:xfrm>
              <a:off x="6732720" y="2637000"/>
              <a:ext cx="934920" cy="2376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028000" y="3787920"/>
              <a:ext cx="503280" cy="1152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77840" y="1270080"/>
          <a:ext cx="8966160" cy="510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270080"/>
                    <a:ext cx="896616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1619280" y="462960"/>
            <a:ext cx="74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obertura previs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92000" y="524520"/>
            <a:ext cx="6994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obertura Previsional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85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35280" y="91440"/>
            <a:ext cx="68515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Distribución de pensionados actual…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3" name=""/>
          <p:cNvSpPr/>
          <p:nvPr/>
        </p:nvSpPr>
        <p:spPr>
          <a:xfrm>
            <a:off x="2262240" y="1221840"/>
            <a:ext cx="37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tock de pensiones según monto de pen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922320" y="1558800"/>
          <a:ext cx="7254720" cy="1941480"/>
        </p:xfrm>
        <a:graphic>
          <a:graphicData uri="http://schemas.openxmlformats.org/drawingml/2006/table">
            <a:tbl>
              <a:tblPr/>
              <a:tblGrid>
                <a:gridCol w="2936880"/>
                <a:gridCol w="858960"/>
                <a:gridCol w="680760"/>
                <a:gridCol w="779760"/>
                <a:gridCol w="609480"/>
                <a:gridCol w="758880"/>
                <a:gridCol w="630000"/>
              </a:tblGrid>
              <a:tr h="303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tiro Program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ta Vitali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ayores o igual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7.7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21.1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63.9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enor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74.1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8.53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45.1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71.9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59.72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9.1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1033560" y="3715920"/>
            <a:ext cx="573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ujo de pensiones solicitadas durante 2003 según monto de pens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22320" y="4206960"/>
          <a:ext cx="7250040" cy="1941480"/>
        </p:xfrm>
        <a:graphic>
          <a:graphicData uri="http://schemas.openxmlformats.org/drawingml/2006/table">
            <a:tbl>
              <a:tblPr/>
              <a:tblGrid>
                <a:gridCol w="2933640"/>
                <a:gridCol w="858960"/>
                <a:gridCol w="682560"/>
                <a:gridCol w="771480"/>
                <a:gridCol w="617760"/>
                <a:gridCol w="760320"/>
                <a:gridCol w="625320"/>
              </a:tblGrid>
              <a:tr h="303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tiro Program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ta Vitalicia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ayores o igual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3.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9.57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3.3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enor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0.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8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8.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3.2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9.76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1.4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900000" y="6165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¿Qué ocurrirá en los próximos 30 añ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751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66560" y="189000"/>
            <a:ext cx="8353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ontos de las pen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79640" y="3141720"/>
            <a:ext cx="4248000" cy="287964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43640" y="5789520"/>
            <a:ext cx="20160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Quiénes s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193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03280" y="5364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60 año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4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97200" y="4392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General aspects of the Chilean pension system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Multipillar system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illar 1: Old age poverty preven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Contributory Minimum pension State-guaranteed (20 yr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Non contributory means tested basic pens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illar 2: Consumption smoothing, mandator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 Unicode MS"/>
                <a:hlinkClick r:id="rId1" action="ppaction://hlinksldjump"/>
              </a:rPr>
              <a:t>AFP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 (stands for Pension Fund Managers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illar 3: Consumption smoothing, voluntar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AFP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Life Insurance Companies (LIC)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Mutual Funds, brok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244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60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244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70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305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70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843280" y="1916280"/>
            <a:ext cx="5327640" cy="3870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18920" y="188280"/>
            <a:ext cx="74516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nformación desagregada : densidad de cotizaciones es menor a la esperada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6" name=""/>
          <p:cNvSpPr/>
          <p:nvPr/>
        </p:nvSpPr>
        <p:spPr>
          <a:xfrm>
            <a:off x="3062520" y="1556640"/>
            <a:ext cx="49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ensidad de Cotizaciones para toda la historia lab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10960" y="5733360"/>
            <a:ext cx="52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uente: elaboración propia en base a Historias Previs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116000" y="2852640"/>
            <a:ext cx="3197160" cy="2502000"/>
            <a:chOff x="1116000" y="2852640"/>
            <a:chExt cx="3197160" cy="2502000"/>
          </a:xfrm>
        </p:grpSpPr>
        <p:sp>
          <p:nvSpPr>
            <p:cNvPr id="159" name=""/>
            <p:cNvSpPr/>
            <p:nvPr/>
          </p:nvSpPr>
          <p:spPr>
            <a:xfrm>
              <a:off x="3305160" y="3267000"/>
              <a:ext cx="1008000" cy="208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391400">
              <a:off x="2772720" y="3460320"/>
              <a:ext cx="432000" cy="360360"/>
            </a:xfrm>
            <a:prstGeom prst="rightArrow">
              <a:avLst>
                <a:gd name="adj1" fmla="val 50000"/>
                <a:gd name="adj2" fmla="val 299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16000" y="2852640"/>
              <a:ext cx="194472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8920" indent="-889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 Narrow"/>
                </a:rPr>
                <a:t>Principalmente muje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8920" indent="-889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 Narrow"/>
                </a:rPr>
                <a:t>Kurtosis   1,92 (muestra: 1,5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659640" y="2060640"/>
            <a:ext cx="1297080" cy="3097080"/>
            <a:chOff x="6659640" y="2060640"/>
            <a:chExt cx="1297080" cy="3097080"/>
          </a:xfrm>
        </p:grpSpPr>
        <p:sp>
          <p:nvSpPr>
            <p:cNvPr id="163" name=""/>
            <p:cNvSpPr/>
            <p:nvPr/>
          </p:nvSpPr>
          <p:spPr>
            <a:xfrm>
              <a:off x="6659640" y="2781360"/>
              <a:ext cx="0" cy="2376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59640" y="2060640"/>
              <a:ext cx="1297080" cy="576360"/>
            </a:xfrm>
            <a:prstGeom prst="downArrowCallout">
              <a:avLst>
                <a:gd name="adj1" fmla="val 56267"/>
                <a:gd name="adj2" fmla="val 56262"/>
                <a:gd name="adj3" fmla="val 16667"/>
                <a:gd name="adj4" fmla="val 66667"/>
              </a:avLst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804000" y="206064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+/- 33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1241280"/>
            <a:ext cx="8642160" cy="48085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scenario Base - Todos los afiliado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8" name=""/>
          <p:cNvSpPr/>
          <p:nvPr/>
        </p:nvSpPr>
        <p:spPr>
          <a:xfrm>
            <a:off x="3203640" y="6083280"/>
            <a:ext cx="649080" cy="65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6360" y="6083280"/>
            <a:ext cx="1728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recimiento Pensión Mín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61801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292720" y="6083280"/>
            <a:ext cx="2087280" cy="647640"/>
            <a:chOff x="5292720" y="6083280"/>
            <a:chExt cx="2087280" cy="647640"/>
          </a:xfrm>
        </p:grpSpPr>
        <p:sp>
          <p:nvSpPr>
            <p:cNvPr id="172" name=""/>
            <p:cNvSpPr/>
            <p:nvPr/>
          </p:nvSpPr>
          <p:spPr>
            <a:xfrm>
              <a:off x="6659280" y="6083280"/>
              <a:ext cx="64944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292720" y="6083280"/>
              <a:ext cx="136836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Rentabil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32360" y="61801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scenario Alcanzable - Todos los afiliado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6" name=""/>
          <p:cNvSpPr/>
          <p:nvPr/>
        </p:nvSpPr>
        <p:spPr>
          <a:xfrm>
            <a:off x="3203640" y="6083280"/>
            <a:ext cx="649080" cy="65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76360" y="6083280"/>
            <a:ext cx="1728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recimiento Pensión Mín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61801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292720" y="6083280"/>
            <a:ext cx="2087280" cy="647640"/>
            <a:chOff x="5292720" y="6083280"/>
            <a:chExt cx="2087280" cy="647640"/>
          </a:xfrm>
        </p:grpSpPr>
        <p:sp>
          <p:nvSpPr>
            <p:cNvPr id="180" name=""/>
            <p:cNvSpPr/>
            <p:nvPr/>
          </p:nvSpPr>
          <p:spPr>
            <a:xfrm>
              <a:off x="6659280" y="6083280"/>
              <a:ext cx="64944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92720" y="6083280"/>
              <a:ext cx="136836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Rentabil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32360" y="61801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7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50920" y="1262160"/>
            <a:ext cx="8642160" cy="4830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rcRect l="12155" t="0" r="12155" b="0"/>
          <a:stretch/>
        </p:blipFill>
        <p:spPr>
          <a:xfrm>
            <a:off x="655560" y="1392120"/>
            <a:ext cx="7777080" cy="53946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Hombres que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ujeres que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12392" t="0" r="12405" b="0"/>
          <a:stretch/>
        </p:blipFill>
        <p:spPr>
          <a:xfrm>
            <a:off x="695160" y="1366920"/>
            <a:ext cx="7728120" cy="5395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Hombres que </a:t>
            </a:r>
            <a:r>
              <a:rPr b="0" lang="en-US" sz="3200" spc="-1" strike="noStrike">
                <a:solidFill>
                  <a:srgbClr val="ff3300"/>
                </a:solidFill>
                <a:latin typeface="Arial Unicode MS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12405" t="0" r="12392" b="0"/>
          <a:stretch/>
        </p:blipFill>
        <p:spPr>
          <a:xfrm>
            <a:off x="611280" y="1268280"/>
            <a:ext cx="7848360" cy="5480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4920" y="44280"/>
            <a:ext cx="903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ujeres que </a:t>
            </a:r>
            <a:r>
              <a:rPr b="0" lang="en-US" sz="3200" spc="-1" strike="noStrike">
                <a:solidFill>
                  <a:srgbClr val="ff3300"/>
                </a:solidFill>
                <a:latin typeface="Arial Unicode MS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rcRect l="25408" t="39603" r="23409" b="16435"/>
          <a:stretch/>
        </p:blipFill>
        <p:spPr>
          <a:xfrm>
            <a:off x="566640" y="1268280"/>
            <a:ext cx="7991640" cy="5489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619280" y="20520"/>
            <a:ext cx="74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Unicode MS"/>
              </a:rPr>
              <a:t>La reforma de pensiones ha sido un éxito financiero indud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504800"/>
            <a:ext cx="396072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torno promedio en activos : 10,2% re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7920" y="1504800"/>
            <a:ext cx="444024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ctivos alcanzan a USD 61 mil mill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0" y="2185920"/>
          <a:ext cx="4572000" cy="433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185920"/>
                    <a:ext cx="4572000" cy="43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0" y="2276640"/>
          <a:ext cx="4572000" cy="4176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76640"/>
                    <a:ext cx="457200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1116000" y="1792440"/>
            <a:ext cx="7792560" cy="5020920"/>
            <a:chOff x="1116000" y="1792440"/>
            <a:chExt cx="7792560" cy="5020920"/>
          </a:xfrm>
        </p:grpSpPr>
        <p:graphicFrame>
          <p:nvGraphicFramePr>
            <p:cNvPr id="193" name=""/>
            <p:cNvGraphicFramePr/>
            <p:nvPr/>
          </p:nvGraphicFramePr>
          <p:xfrm>
            <a:off x="4308120" y="1792440"/>
            <a:ext cx="4203360" cy="17762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8120" y="1792440"/>
                      <a:ext cx="4203360" cy="177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5" name=""/>
            <p:cNvSpPr/>
            <p:nvPr/>
          </p:nvSpPr>
          <p:spPr>
            <a:xfrm>
              <a:off x="1116000" y="2143080"/>
              <a:ext cx="3470040" cy="19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La mitad de los cotizantes no saben bien  cuanto aportan mensualmente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18880" y="3808800"/>
              <a:ext cx="310176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Prácticamente nadie sabe bien cuanto le paga a su AFP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7" name=""/>
            <p:cNvGraphicFramePr/>
            <p:nvPr/>
          </p:nvGraphicFramePr>
          <p:xfrm>
            <a:off x="4016160" y="3166200"/>
            <a:ext cx="4892400" cy="30513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9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016160" y="3166200"/>
                      <a:ext cx="4892400" cy="305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9" name=""/>
            <p:cNvSpPr/>
            <p:nvPr/>
          </p:nvSpPr>
          <p:spPr>
            <a:xfrm>
              <a:off x="1471320" y="3585600"/>
              <a:ext cx="64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0" name=""/>
            <p:cNvGraphicFramePr/>
            <p:nvPr/>
          </p:nvGraphicFramePr>
          <p:xfrm>
            <a:off x="4073400" y="5177880"/>
            <a:ext cx="4716000" cy="163548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20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073400" y="5177880"/>
                      <a:ext cx="4716000" cy="163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2" name=""/>
            <p:cNvSpPr/>
            <p:nvPr/>
          </p:nvSpPr>
          <p:spPr>
            <a:xfrm>
              <a:off x="1501560" y="5186160"/>
              <a:ext cx="64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116000" y="5234400"/>
              <a:ext cx="310176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Menos de la mitad sabe cuanto tiene acumulado en su fondo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1387440" y="160200"/>
            <a:ext cx="768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aracterística de la demanda: desconocimiento, indiferencia 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79640" y="258480"/>
            <a:ext cx="712944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mprevisión!!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6" name=""/>
          <p:cNvSpPr/>
          <p:nvPr/>
        </p:nvSpPr>
        <p:spPr>
          <a:xfrm>
            <a:off x="7536960" y="5873760"/>
            <a:ext cx="13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ntique Olive"/>
              </a:rPr>
              <a:t>Fuente: HL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61800" y="1442880"/>
            <a:ext cx="8420400" cy="39722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357120" y="1452600"/>
            <a:ext cx="8429760" cy="39528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352440" y="1447920"/>
            <a:ext cx="8439120" cy="39621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2987640" y="5267160"/>
            <a:ext cx="432000" cy="192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19640" y="5241960"/>
            <a:ext cx="31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ntique Olive"/>
              </a:rPr>
              <a:t>Expectativa de vida según tablas de 1985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xógenos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 Unicode MS"/>
              </a:rPr>
              <a:t>1. Mercado del Trabajo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Desapareció empleo de por vida: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&gt; rotación, desempleo  + frecuente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Factores del Mercado del trabajo afectan de manera no homogénea: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la empleabilidad difiere por educación, ingreso, contactos familiares…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Los trabajadores más pobres están más expuestos a estas incertidumbr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+ trabajadores por cuenta propia: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requieren ahorros líquidos en caso de necesidad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92360" y="194760"/>
            <a:ext cx="698328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Unicode MS"/>
              </a:rPr>
              <a:t>Problemas exógenos: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ercado del Trabajo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92000" y="280080"/>
            <a:ext cx="699444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Unicode MS"/>
              </a:rPr>
              <a:t>Problemas exógenos: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ercado del Trabajo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5184720" cy="4249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219640" y="1413000"/>
            <a:ext cx="392436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esgano natural de muchos trabajadores a coti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liferación de un mercado formal de trabajadores independientes: requieren de ahorros líquidos mientras que los ahorro de pensión son extremadamente líquido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4000" y="5734080"/>
            <a:ext cx="3456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→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rtalecer Seguro de Cesant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5734080"/>
            <a:ext cx="4248000" cy="72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 obligar, incita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ducir costos de trans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xógenos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05440" cy="39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</a:rPr>
              <a:t>2. Mujeres, un caso especial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Comienzan a trabajar más tarde,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Tienen más lagunas,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Ganan menos para igual calificación, (20%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Se retiran antes (edad legal de jubilación 60 años vs. 65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Viven más (87 vs 82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716360" y="1773360"/>
            <a:ext cx="4248360" cy="3024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187280" y="5157720"/>
            <a:ext cx="7056720" cy="161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hile tiene baja tasa de participación femenina. Para que su aumento no sea un “infierno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evaluación del rol masculino en el hoga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yuda a la mujer trabajador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Flexibilidad de contratos, etc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xógenos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403200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ados los ahorros, hay que financiar más años de vid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secuencia: pensiones menor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tradicciones: la gente vive más…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ero se retira ant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Y se siente mejor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284720" y="1700280"/>
          <a:ext cx="4859280" cy="47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00280"/>
                    <a:ext cx="485928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144360" y="5516640"/>
            <a:ext cx="4211640" cy="1267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diciones laborales en la edad madu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dad legal de jubil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4880" y="1482840"/>
            <a:ext cx="459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Narrow"/>
              </a:rPr>
              <a:t>3. Mayores expectativas de 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969920" y="115560"/>
            <a:ext cx="699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6680" y="1484280"/>
            <a:ext cx="433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1. Competencia y concen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395280" y="2205000"/>
          <a:ext cx="8064360" cy="404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205000"/>
                    <a:ext cx="8064360" cy="40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Arial Unicode MS"/>
              </a:rPr>
              <a:t>Dos problemas de diseño en competencia y concentración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 Unicode MS"/>
              </a:rPr>
              <a:t>Inelasticidad de la demanda</a:t>
            </a: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: explicada por carácter obligatorio del bien previsional. El mercado de pensiones es artificial, no hay una demanda espontánea (masiva). Por eso, la gente no presta atención a variables relevantes (rentabilidad, precio, riesgo), en particular cuando son jóven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 Unicode MS"/>
              </a:rPr>
              <a:t>Economías de escala</a:t>
            </a: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: típico en el sector financiero, pero aquí exagerado por la necesidad del giro únic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6" name=""/>
          <p:cNvSpPr/>
          <p:nvPr/>
        </p:nvSpPr>
        <p:spPr>
          <a:xfrm>
            <a:off x="1042920" y="5424480"/>
            <a:ext cx="7416720" cy="1448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regar demanda vía licit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car economías de esca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formar a los afili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49560" y="13320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Banco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1616040"/>
            <a:ext cx="8136000" cy="457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Licuación de fondos: ventas a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nflictos de interé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manejo de fondos propios, administración fondos de ter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Riesgo sistémico: buy-sell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mpetencia: ingreso probable, qué pasa desp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bertura: no se prevé gana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896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Modelo Corbo/Schmidt-Hebb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" name=""/>
          <p:cNvSpPr/>
          <p:nvPr/>
        </p:nvSpPr>
        <p:spPr>
          <a:xfrm>
            <a:off x="271440" y="3651840"/>
            <a:ext cx="1752480" cy="703800"/>
          </a:xfrm>
          <a:prstGeom prst="flowChartProcess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Reforma de pen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28840" y="2379960"/>
            <a:ext cx="1752480" cy="703800"/>
          </a:xfrm>
          <a:prstGeom prst="flowChartProcess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ercado del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3240" y="3980160"/>
            <a:ext cx="1828800" cy="7038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esarrollo financi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3240" y="5093280"/>
            <a:ext cx="12193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hor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43440" y="5093280"/>
            <a:ext cx="16765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Inv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29240" y="4178880"/>
            <a:ext cx="91440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86240" y="2913480"/>
            <a:ext cx="1676520" cy="7038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mpleo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09920" y="2045160"/>
            <a:ext cx="23623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Form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6360" y="5062680"/>
            <a:ext cx="2133360" cy="10087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Financiamiento público de la tran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900840" y="3416760"/>
            <a:ext cx="205740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61" idx="3"/>
            <a:endCxn id="64" idx="1"/>
          </p:cNvCxnSpPr>
          <p:nvPr/>
        </p:nvCxnSpPr>
        <p:spPr>
          <a:xfrm>
            <a:off x="2023560" y="4003200"/>
            <a:ext cx="1220040" cy="1289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2" idx="3"/>
            <a:endCxn id="68" idx="1"/>
          </p:cNvCxnSpPr>
          <p:nvPr/>
        </p:nvCxnSpPr>
        <p:spPr>
          <a:xfrm flipV="1">
            <a:off x="4080960" y="2244240"/>
            <a:ext cx="229320" cy="488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2" idx="3"/>
            <a:endCxn id="67" idx="1"/>
          </p:cNvCxnSpPr>
          <p:nvPr/>
        </p:nvCxnSpPr>
        <p:spPr>
          <a:xfrm>
            <a:off x="4080960" y="2732040"/>
            <a:ext cx="305640" cy="53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3" idx="3"/>
            <a:endCxn id="66" idx="1"/>
          </p:cNvCxnSpPr>
          <p:nvPr/>
        </p:nvCxnSpPr>
        <p:spPr>
          <a:xfrm>
            <a:off x="5072040" y="4332240"/>
            <a:ext cx="457920" cy="46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4" idx="3"/>
            <a:endCxn id="65" idx="1"/>
          </p:cNvCxnSpPr>
          <p:nvPr/>
        </p:nvCxnSpPr>
        <p:spPr>
          <a:xfrm>
            <a:off x="4462560" y="5292360"/>
            <a:ext cx="3816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8" idx="3"/>
            <a:endCxn id="70" idx="1"/>
          </p:cNvCxnSpPr>
          <p:nvPr/>
        </p:nvCxnSpPr>
        <p:spPr>
          <a:xfrm>
            <a:off x="6671880" y="2244600"/>
            <a:ext cx="229320" cy="13723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7" name=""/>
          <p:cNvCxnSpPr>
            <a:stCxn id="67" idx="3"/>
            <a:endCxn id="70" idx="1"/>
          </p:cNvCxnSpPr>
          <p:nvPr/>
        </p:nvCxnSpPr>
        <p:spPr>
          <a:xfrm>
            <a:off x="6062760" y="3265560"/>
            <a:ext cx="838800" cy="351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66" idx="3"/>
            <a:endCxn id="70" idx="1"/>
          </p:cNvCxnSpPr>
          <p:nvPr/>
        </p:nvCxnSpPr>
        <p:spPr>
          <a:xfrm flipV="1">
            <a:off x="6443640" y="3615480"/>
            <a:ext cx="45792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3"/>
            <a:endCxn id="70" idx="1"/>
          </p:cNvCxnSpPr>
          <p:nvPr/>
        </p:nvCxnSpPr>
        <p:spPr>
          <a:xfrm flipV="1">
            <a:off x="6519960" y="3615480"/>
            <a:ext cx="381600" cy="16772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0" name=""/>
          <p:cNvCxnSpPr>
            <a:stCxn id="61" idx="3"/>
            <a:endCxn id="63" idx="1"/>
          </p:cNvCxnSpPr>
          <p:nvPr/>
        </p:nvCxnSpPr>
        <p:spPr>
          <a:xfrm>
            <a:off x="2023560" y="4003200"/>
            <a:ext cx="1220040" cy="329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61" idx="3"/>
            <a:endCxn id="62" idx="1"/>
          </p:cNvCxnSpPr>
          <p:nvPr/>
        </p:nvCxnSpPr>
        <p:spPr>
          <a:xfrm flipV="1">
            <a:off x="2023560" y="2732040"/>
            <a:ext cx="305640" cy="1271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69" idx="3"/>
            <a:endCxn id="64" idx="1"/>
          </p:cNvCxnSpPr>
          <p:nvPr/>
        </p:nvCxnSpPr>
        <p:spPr>
          <a:xfrm flipV="1">
            <a:off x="2709720" y="5292000"/>
            <a:ext cx="534240" cy="275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1908000" y="-228960"/>
            <a:ext cx="7164720" cy="17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Unicode MS"/>
              </a:rPr>
              <a:t>La reforma de pensiones ha tenido importantes efectos macro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"/>
          <p:cNvSpPr/>
          <p:nvPr/>
        </p:nvSpPr>
        <p:spPr>
          <a:xfrm>
            <a:off x="3054240" y="4913280"/>
            <a:ext cx="3686400" cy="792360"/>
          </a:xfrm>
          <a:prstGeom prst="rect">
            <a:avLst/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54240" y="3900600"/>
            <a:ext cx="3686400" cy="887400"/>
          </a:xfrm>
          <a:prstGeom prst="rect">
            <a:avLst/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9000" y="4535640"/>
            <a:ext cx="17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Fijarse en las causalidad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AFP Estatal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1616040"/>
            <a:ext cx="8064360" cy="5259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Licuación de fondos: ventas a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nflictos de interé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manejo de fondos propios, administración fondos de ter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políticas del gobier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Riesgo sistémico: buy-sell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mpetencia: ingreso probable, qué pasa desp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bertura: seguridad que da el Estado, pero eso no cambia iliquidez del ahorro previsional, ni el mercad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07280" cy="41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 Unicode MS"/>
              </a:rPr>
              <a:t>2. Regulación a las inversiones compleja y poco flexible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1% de mayor rentabilidad en toda la vida significa más de 20% de mayor pensió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structura de límites compleja (94 x fondo), induce cierta delegación de responsabilidad en la autoridad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i se hubiera permitido optimizar en cada minuto, el fondo global sería más de 10% superior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No existe metodología común de medición de riesgo y no conocemos el riesgo de las pensione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3" name=""/>
          <p:cNvSpPr/>
          <p:nvPr/>
        </p:nvSpPr>
        <p:spPr>
          <a:xfrm>
            <a:off x="1979640" y="18864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87280" y="5661000"/>
            <a:ext cx="69138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ar el proceso de inversión de los Fon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394920" y="1700280"/>
            <a:ext cx="8280360" cy="28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</a:rPr>
              <a:t>3. Generar un primer pilar inteligente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GPM a 20 años no es incitativ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Topping-up implica un gran impuesto a las contribuciones marginales una vez que se cumplió el requisito de 20 año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40-50% de la gente no alcanzaría a tener acceso a GPM (algunos nunca habrían tenido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6" name=""/>
          <p:cNvSpPr/>
          <p:nvPr/>
        </p:nvSpPr>
        <p:spPr>
          <a:xfrm>
            <a:off x="1979640" y="18864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332000" y="4941720"/>
            <a:ext cx="676908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¿Graduación de P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¿Pensión básica univers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nanci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960480" y="3800520"/>
            <a:ext cx="720072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uillermo Larrain Rio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perintendente de AFP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sentación para el Magíster en Políticas Pública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antiago, 5 de agosto de 2005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9" name=""/>
          <p:cNvSpPr/>
          <p:nvPr/>
        </p:nvSpPr>
        <p:spPr>
          <a:xfrm>
            <a:off x="1187280" y="2183760"/>
            <a:ext cx="6840720" cy="1312920"/>
          </a:xfrm>
          <a:prstGeom prst="rect">
            <a:avLst/>
          </a:prstGeom>
          <a:solidFill>
            <a:srgbClr val="33339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 Unicode MS"/>
              </a:rPr>
              <a:t>Reflexiones sobre el Sistema Previsional Chil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82520" y="2138400"/>
          <a:ext cx="2855880" cy="354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2138400"/>
                    <a:ext cx="285588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3263760" y="1646280"/>
          <a:ext cx="5880240" cy="43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63760" y="1646280"/>
                    <a:ext cx="588024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31840" y="5977080"/>
            <a:ext cx="489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uente: Corbo y Schmidt-Hebbel (2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8000" y="-228960"/>
            <a:ext cx="7164720" cy="17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Unicode MS"/>
              </a:rPr>
              <a:t>La reforma de pensiones ha tenido importantes efectos macro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iversificación de activos: todos los instrumento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1187280"/>
          <a:ext cx="914400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87280"/>
                    <a:ext cx="914400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08080" y="1268280"/>
          <a:ext cx="8742240" cy="558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080" y="1268280"/>
                    <a:ext cx="874224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iversificación de activos: </a:t>
            </a:r>
            <a:br>
              <a:rPr sz="2800"/>
            </a:b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sector financiero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iversificación de activos:  todos los intrumento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1187280"/>
          <a:ext cx="914400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87280"/>
                    <a:ext cx="914400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3240" y="1187280"/>
          <a:ext cx="917892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187280"/>
                    <a:ext cx="917892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692360" y="122760"/>
            <a:ext cx="7451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Unicode MS"/>
              </a:rPr>
              <a:t>Diversificación de activos: </a:t>
            </a: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Instrumentos corpor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9:24:17Z</dcterms:created>
  <dc:creator>safp</dc:creator>
  <dc:description/>
  <dc:language>en-US</dc:language>
  <cp:lastModifiedBy>SAFP</cp:lastModifiedBy>
  <dcterms:modified xsi:type="dcterms:W3CDTF">2005-08-05T15:47:18Z</dcterms:modified>
  <cp:revision>109</cp:revision>
  <dc:subject/>
  <dc:title>Cobertura, densidad y pensiones en Chile:  Proyecciones a 30 años plazo</dc:title>
</cp:coreProperties>
</file>